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6598-0B75-4980-BBCF-DF6DFF249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B7AE-7005-4E29-9699-9C3679811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3A91-7561-4E18-B1CA-9854F7E98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5353-4D53-4256-9AD6-2C0EB72E2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3833-2901-4376-99FA-7DAF24913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B750-E080-413E-B3CF-055274F78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7C43-4071-40B9-9275-1E516B47B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B79B-E944-4BD0-91DD-32AC1C657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2E26-828F-439C-ABA8-90A62AEB9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0CC9-29FE-4B20-9344-BB0123061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B79A-7C97-4EE0-8E0C-2EBAF69BD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4E2C-7E8C-466D-B840-18D84225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42B7B-7D53-4BC0-AD7C-F4035A7AD9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1403280" y="1700280"/>
            <a:ext cx="633744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楷体_GB2312"/>
              </a:rPr>
              <a:t>科学发展观</a:t>
            </a:r>
            <a:endParaRPr b="1" lang="en-US" sz="66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楷体_GB2312"/>
              <a:ea typeface="楷体_GB2312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708360" y="5516640"/>
            <a:ext cx="46087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楷体_GB2312"/>
              </a:rPr>
              <a:t>高二八班  主题班会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5562720"/>
            <a:ext cx="244800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、我校学习科学发展观取得的成效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办学理念。“点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润泽每一个生命，走大众教育之路，培养全体学生全面发展成人成才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新课改举措。①提高课堂有效性：提前一周集体备课；首席教师上研讨课；推广课堂观察听课法；课堂教学改革②校本课程开发，编写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本校本课程。分为校本（一）和 校本（二）两个体系。③综合实践活动：研究性学习、社会实践、社区服务④学生综合素质评价，建立成长记录袋⑤组建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个学生社团组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6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9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校学习科学发展观取得的成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1832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德育改革。①“三小课”（升旗课、班会课、心安课）和 “四大活动”（田径运动会、球类运动会、艺术节、科技节）②单项好学生③大班部委制④培养良好习惯⑤全员德育（首遇责任制、岗位责任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管理创新。①制度重建②教师和行政人员工作业绩考评③管理时间：上午第五节数学自习，统一做眼保健操、课间操，周二到周四下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节上校本课④民主管理：常规会议制度、教代会、校务公开、以人为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成绩。成功承办全市高中新课改观摩研讨会和王益区课堂有效性现场会，学生代表队在全市歌咏比赛获一等奖，预防甲流取得成效。我校高中新课改和校园文化建设走在全市前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14920" y="5335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结束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2733480"/>
            <a:ext cx="842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科学的发展观在教育事业中体现为坚持以学生为本，促进学生全面发展，建立有利于学生终身发展的学习机制、教育机制、成长机制。促进学生、老师、学校及教育的全面可持续发展。 坚持育人为本，德育为先，实施素质教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针对我校学生的实际，树立正确的人生观。根据学生身心发展的规律，完善育人体制，让学生在宽松和谐的氛围中健康成长。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新魏"/>
              </a:rPr>
              <a:t>着力提高体育教学的质量。实现质量与效果相统一。充分的挖掘教材，激发学生的潜力，提高体育教学的质量。坚持理论和实际相结合从体育教学的实际出发，加强理论的研究，推进教学实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以上是我深入学习实践科学发展观活动的肤浅总结，今后我要在学习中不断提高，不断完善自己。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4648320" y="1676520"/>
            <a:ext cx="3600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拜拜  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438280" y="4495680"/>
            <a:ext cx="4537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祝大家考个好成绩</a:t>
            </a: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!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3505320"/>
            <a:ext cx="53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全体班团成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9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79280" y="1989000"/>
            <a:ext cx="87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2000" spc="-1" strike="noStrike">
                <a:solidFill>
                  <a:srgbClr val="3366ff"/>
                </a:solidFill>
                <a:latin typeface="Arial"/>
              </a:rPr>
              <a:t>　 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  <a:ea typeface="楷体_GB2312"/>
              </a:rPr>
              <a:t>2003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  <a:ea typeface="楷体_GB2312"/>
              </a:rPr>
              <a:t>年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  <a:ea typeface="楷体_GB2312"/>
              </a:rPr>
              <a:t>月召开的中国共产党十六届三中全会提出了科学发展观，并把它的基本内涵概括为“坚持以人为本，树立全面、协调、可持续的发展观，促进经济社会和人的全面发展”，坚持“统筹城乡发展、统筹区域发展、统筹经济社会发展、统筹人与自然和谐发展、统筹国内发展和对外开放的要求” </a:t>
            </a:r>
            <a:br>
              <a:rPr sz="2400"/>
            </a:br>
            <a:r>
              <a:rPr b="1" lang="zh-CN" sz="2400" spc="-1" strike="noStrike">
                <a:solidFill>
                  <a:srgbClr val="3366ff"/>
                </a:solidFill>
                <a:latin typeface="Arial"/>
                <a:ea typeface="楷体_GB2312"/>
              </a:rPr>
              <a:t>　　许多学者有着共同的感触，只要一谈到发展，其行为主体除了人之外似乎都不可能担当，这是一个以人的全面发展为主线的社会整体进化，它远远超过了“满足人类生存”这一简单的道德诉求。由此出发，其合理的顺延就逐渐地形成了导致“科学发展观”产生的源头。联合国教科文组织在上世纪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  <a:ea typeface="楷体_GB2312"/>
              </a:rPr>
              <a:t>90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  <a:ea typeface="楷体_GB2312"/>
              </a:rPr>
              <a:t>年代就认为：“发展越来越被看作是社会灵魂的一种觉醒”。而可持续发展思想的生成，正是以上述发展概念的拓广为基础的</a:t>
            </a:r>
            <a:r>
              <a:rPr b="1" lang="zh-CN" sz="2400" spc="-1" strike="noStrike">
                <a:solidFill>
                  <a:srgbClr val="33cc33"/>
                </a:solidFill>
                <a:latin typeface="Arial"/>
                <a:ea typeface="楷体_GB2312"/>
              </a:rPr>
              <a:t>。</a:t>
            </a:r>
            <a:r>
              <a:rPr b="1" lang="zh-CN" sz="2400" spc="-1" strike="noStrike">
                <a:solidFill>
                  <a:srgbClr val="ff99ff"/>
                </a:solidFill>
                <a:latin typeface="Arial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 rot="233400">
            <a:off x="457200" y="304560"/>
            <a:ext cx="77724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提出的时间背景、内容措施、实施情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9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9640" y="90792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430200"/>
            <a:ext cx="820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胡锦涛说，科学发展观，是对党的三代中央领导集体关于发展的重要思想的继承和发展，是马克思主义关于发展的世界观和方法论的集中体现，是同马克思列宁主义、毛泽东思想、邓小平理论和“三个代表”重要思想既一脉相承又与时俱进的科学理论，是我国经济社会发展的重要指导方针，是发展中国特色社会主义必须坚持和贯彻的重大战略思想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　　胡锦涛指出，科学发展观，是立足社会主义初级阶段基本国情，总结我国发展实践，借鉴国外发展经验，适应新的发展要求提出来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11280" y="549360"/>
            <a:ext cx="8532720" cy="46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胡锦涛说，科学发展观，第一要义是发展，核心是以人为本，基本要求是全面协调可持续，根本方法是统筹兼顾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――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必须坚持把发展作为党执政兴国的第一要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――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必须坚持以人为本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――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必须坚持全面协调可持续发展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――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必须坚持统筹兼顾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深入贯彻落实科学发展观，要求我们积极构建社会主义和谐社会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深入贯彻落实科学发展观，要求我们继续深化改革开放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深入贯彻落实科学发展观，要求我们切实加强和改进党的建设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科学发展观基本要求是全面协调可持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建设中国特色社会主义，是以经济建设为中心，社会主义物质文明、政治文明和精神文明全面发展、全面进步的事业。物质文明、政治文明和精神文明都是社会文明的重要方面，缺少其中任何一个方面，社会都不可能健康地向前发展。我们讲发展是党执政兴国的第一要务，这里的发展绝不只是指经济增长，而是要坚持以经济建设为中心，在经济发展的基础上实现社会全面发展。我们要更好地坚持全面发展、协调发展、可持续发展的发展观，更加自觉地坚持推动社会主义物质文明、政治文明和精神文明协调发展，坚持在经济社会发展的基础上促进人的全面发展，坚持促进人与自然的和谐。在促进发展的进程中，我们不仅要关注经济指标，而且要关注人文指标、资源指标和环境指标；不仅要增加促进经济增长的投入，而且要增加促进社会发展的投入，增加保护资源和环境的投入 中国特色社会主义是社会主义市场经济、社会主义民主政治和社会主义先进文化协调发展的伟大事业。要积极稳妥地推进政治体制改革，扩大社会主义民主，健全社会主义法制，为发展社会主义市场经济提供强有力的政治保证。要大力加强社会主义文化建设，着力建立与社会主义市场经济相适应、与社会主义法律规范相协调、与中华民族传统美德相承接的社会主义思想道德体系，弘扬和培育民族精神，不断提高全民族的思想道德素质和科学文化素质，为改革和发展提供强大的精神动力和智力支持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4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533520"/>
            <a:ext cx="7345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以人为本之所以是科学发展观的核心，主要有以下三方面原因。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第一，以人为本是历史唯物主义的一项基本原则。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第二，以人为本是我们党的根本宗旨和执政理念的集中体现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第三，以人为本全面回答了科学发展观 的一系列基本问题。为谁发展、靠谁发展、发展成果如何分配，这是任何一种发展观都必须回答和解决的基本问题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762120" y="5029200"/>
            <a:ext cx="61214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blipFill rotWithShape="0">
                  <a:blip r:embed="rId1">
                    <a:alphaModFix amt="96000"/>
                  </a:blip>
                  <a:srcRect/>
                  <a:stretch/>
                </a:blip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科学发展观核心是以人为本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blipFill rotWithShape="0">
                <a:blip r:embed="rId2">
                  <a:alphaModFix amt="96000"/>
                </a:blip>
                <a:srcRect/>
                <a:stretch/>
              </a:blip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1366920"/>
            <a:ext cx="7705800" cy="33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科学发展观通常是指党的十六届三中全会中提出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“坚持以人为本，树立全面、协调、可持续的发展观，促进经济社会和人的全面发展”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按照“统筹城乡发展、统筹区域发展、统筹经济社会发展、统筹人与自然和谐发展、统筹国内发展和对外开放”的要求推进各项事业的改革和发展的一种方法论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科学发展观的具体内容包括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第一，以人为本的发展观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第二，全面发展观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第三，协调发展观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第四，可持续发展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295280" y="380880"/>
            <a:ext cx="57610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楷体_GB2312"/>
              </a:rPr>
              <a:t>科学发展观的内涵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1143000"/>
            <a:ext cx="79930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其一，它必须能衡量一个国家或区域的“发展度”，</a:t>
            </a:r>
            <a:r>
              <a:rPr b="1" lang="zh-CN" sz="2000" spc="-1" strike="noStrike">
                <a:solidFill>
                  <a:srgbClr val="3366ff"/>
                </a:solidFill>
                <a:latin typeface="Arial"/>
                <a:ea typeface="楷体_GB2312"/>
              </a:rPr>
              <a:t>发展度强调了生产力提高和社会进步的动力特征，即判别一个国家或区域是否在是真正地发展？是否在是健康地发展？是否是理性地发展？以及是否是保证生活质量和生存空间的前提下不断地发展？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其二，是衡量一个国家或区域的“协调度”，</a:t>
            </a:r>
            <a:r>
              <a:rPr b="1" lang="zh-CN" sz="2400" spc="-1" strike="noStrike">
                <a:solidFill>
                  <a:srgbClr val="006600"/>
                </a:solidFill>
                <a:latin typeface="Arial"/>
                <a:ea typeface="楷体_GB2312"/>
              </a:rPr>
              <a:t>协调度强调了内在的效率和质量的概念，即强调合理地优化调控财富的来源、财富的积聚、财富的分配以及财富在满足全人类需求中的行为规范。即能否维持环境与发展之间的平衡？能否维持效率与公正之间的平衡？能否维持市场发育与政府调控之间的平衡？能否维持当代与后代之间在利益分配上的平衡？</a:t>
            </a: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楷体_GB2312"/>
              </a:rPr>
              <a:t>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其三，是衡量一个国家或区域的“持续度”，</a:t>
            </a:r>
            <a:r>
              <a:rPr b="1" lang="zh-CN" sz="2000" spc="-1" strike="noStrike">
                <a:solidFill>
                  <a:srgbClr val="3366ff"/>
                </a:solidFill>
                <a:latin typeface="Arial"/>
                <a:ea typeface="楷体_GB2312"/>
              </a:rPr>
              <a:t>即判断一个国家或区域在发展进程中的长期合理性。持续度更加注重从“时间维”上去把握发展度和协调度。建立科学发展观的理论体系所表明的三大特征，即数量维（发展）、质量维（协调）、时间维（持续），从根本上表征了对于发展的完满追求。</a:t>
            </a:r>
            <a:r>
              <a:rPr b="1" lang="zh-CN" sz="2000" spc="-1" strike="noStrike">
                <a:solidFill>
                  <a:srgbClr val="33cc33"/>
                </a:solidFill>
                <a:latin typeface="Arial"/>
                <a:ea typeface="楷体_GB2312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219320" y="304920"/>
            <a:ext cx="5113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科学发展观 本质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校学习实践科学发展观活动开展情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5914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学习调研阶段：召开了动员大会，成立了领导机构，制定了实施方案。①学习培训②主题调研：“培养什么样的人，怎样培养人”。开展了“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三百大走访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”，通过学生、家长、教师调查问卷、座谈会、意见箱等形式征求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6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条意见和建议③解放思想大讨论，理清了办学思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析检查阶段：①召开领导班子民主生活会。邀请人大政协、教师、行政人员、学生家长、学生等代表参加并进行了评议。②召开了党员民主生活会③形成领导班子分析检查报告。④组织群众评议领导班子分析检查报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整改落实阶段：①制定整改落实方案，建立台账。②集中解决突出问题。提高二本上线人数，提高生源质量，完善教师业绩考核制度，处理移交遗留问题，开展丰富多彩的教职工文体活动，解决青年教职工住房难问题，建设学生宿舍，建设实验楼和图书楼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项需要整改的内容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35280" y="189000"/>
            <a:ext cx="4897440" cy="1584360"/>
          </a:xfrm>
          <a:prstGeom prst="wedgeEllipseCallout">
            <a:avLst>
              <a:gd name="adj1" fmla="val -44847"/>
              <a:gd name="adj2" fmla="val 7544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近百家门，知百家事，解百家忧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77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" dur="770" fill="hold"/>
                                        <p:tgtEl>
                                          <p:spTgt spid="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0" dur="77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2" dur="77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9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11:07:44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8:15:09Z</dcterms:modified>
  <cp:revision>14</cp:revision>
  <dc:subject>主题班会课件(分28大类): http://shop62905894.taobao.com</dc:subject>
  <dc:title>主题班会课件(分28大类): http://shop62905894.taobao.com</dc:title>
</cp:coreProperties>
</file>